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ct" ContentType="image/x-pict"/>
  <Override PartName="/ppt/media/image8.jpeg" ContentType="image/jpeg"/>
  <Override PartName="/ppt/media/image2.pct" ContentType="image/x-pict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-19440" y="0"/>
            <a:ext cx="916308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C0A3B-43DF-4053-BFC7-1814C6747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55CCC-8672-4F48-939B-CB02D611D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45E8D-51D1-42EC-BB4B-0A451B9AD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F6D29-7872-4A64-8ECC-F0F597E0F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A1DD3-F95F-4152-809A-9844FC84E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-19440" y="0"/>
            <a:ext cx="916308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0E0A8-0C33-48C0-AE00-587D113B5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D51CB-9BBF-421E-AF14-C293F1BC1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0443D-957B-4ACB-AB33-2CDF3FEE2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69856-EAD8-4DE4-B96C-1D2E00FCA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F9BE7-64B7-4A10-9A84-7617CE94D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59B51-7214-4B18-8D70-E2EA9F05E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3B4CF-7C6B-4BD6-A6C3-D93F282A1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-19440" y="0"/>
            <a:ext cx="916308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5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751"/>
              </a:spcBef>
              <a:buClr>
                <a:srgbClr val="b2d2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428840" indent="-228600">
              <a:spcBef>
                <a:spcPts val="751"/>
              </a:spcBef>
              <a:buClr>
                <a:srgbClr val="1191d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1771560" indent="-228600">
              <a:spcBef>
                <a:spcPts val="751"/>
              </a:spcBef>
              <a:buClr>
                <a:srgbClr val="b2d233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1771560" indent="-228600">
              <a:spcBef>
                <a:spcPts val="751"/>
              </a:spcBef>
              <a:buClr>
                <a:srgbClr val="000000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1771560" indent="-228600">
              <a:spcBef>
                <a:spcPts val="751"/>
              </a:spcBef>
              <a:buClr>
                <a:srgbClr val="000000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Rectangle 5"/>
          <p:cNvSpPr/>
          <p:nvPr/>
        </p:nvSpPr>
        <p:spPr>
          <a:xfrm>
            <a:off x="-9360" y="6400800"/>
            <a:ext cx="9153360" cy="4572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8" descr="Pearson_Bound_White"/>
          <p:cNvPicPr/>
          <p:nvPr/>
        </p:nvPicPr>
        <p:blipFill>
          <a:blip r:embed="rId2"/>
          <a:stretch/>
        </p:blipFill>
        <p:spPr>
          <a:xfrm>
            <a:off x="7621560" y="6400800"/>
            <a:ext cx="1533600" cy="457200"/>
          </a:xfrm>
          <a:prstGeom prst="rect">
            <a:avLst/>
          </a:prstGeom>
          <a:ln w="0">
            <a:noFill/>
          </a:ln>
        </p:spPr>
      </p:pic>
      <p:pic>
        <p:nvPicPr>
          <p:cNvPr id="4" name="Picture 9" descr="Pearson_Strap_Bound_White"/>
          <p:cNvPicPr/>
          <p:nvPr/>
        </p:nvPicPr>
        <p:blipFill>
          <a:blip r:embed="rId3"/>
          <a:stretch/>
        </p:blipFill>
        <p:spPr>
          <a:xfrm>
            <a:off x="-3240" y="6400800"/>
            <a:ext cx="1766880" cy="457200"/>
          </a:xfrm>
          <a:prstGeom prst="rect">
            <a:avLst/>
          </a:prstGeom>
          <a:ln w="0">
            <a:noFill/>
          </a:ln>
        </p:spPr>
      </p:pic>
      <p:sp>
        <p:nvSpPr>
          <p:cNvPr id="5" name="Text Box 47"/>
          <p:cNvSpPr/>
          <p:nvPr/>
        </p:nvSpPr>
        <p:spPr>
          <a:xfrm>
            <a:off x="1600200" y="6400800"/>
            <a:ext cx="5629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ffffff"/>
                </a:solidFill>
                <a:latin typeface="Verdana"/>
              </a:rPr>
              <a:t>Electronic Communications: A Systems Approach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Beasley | Hymer | Mill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47"/>
          <p:cNvSpPr/>
          <p:nvPr/>
        </p:nvSpPr>
        <p:spPr>
          <a:xfrm>
            <a:off x="4495680" y="640080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4 by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-9360" y="6400800"/>
            <a:ext cx="9153360" cy="4572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8" descr="Pearson_Bound_White"/>
          <p:cNvPicPr/>
          <p:nvPr/>
        </p:nvPicPr>
        <p:blipFill>
          <a:blip r:embed="rId2"/>
          <a:stretch/>
        </p:blipFill>
        <p:spPr>
          <a:xfrm>
            <a:off x="7621560" y="6396120"/>
            <a:ext cx="1533600" cy="4572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Pearson_Strap_Bound_White"/>
          <p:cNvPicPr/>
          <p:nvPr/>
        </p:nvPicPr>
        <p:blipFill>
          <a:blip r:embed="rId3"/>
          <a:stretch/>
        </p:blipFill>
        <p:spPr>
          <a:xfrm>
            <a:off x="-3240" y="6410160"/>
            <a:ext cx="1766880" cy="4572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2"/>
          <p:cNvSpPr/>
          <p:nvPr/>
        </p:nvSpPr>
        <p:spPr>
          <a:xfrm>
            <a:off x="3240" y="0"/>
            <a:ext cx="9140760" cy="16002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90000"/>
              </a:lnSpc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ELECTRONIC COMMUNIC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467ab"/>
                </a:solidFill>
                <a:latin typeface="Verdana"/>
              </a:rPr>
              <a:t>A SYSTEMS APPRO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5154840" y="2971800"/>
            <a:ext cx="155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CHAP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47"/>
          <p:cNvSpPr/>
          <p:nvPr/>
        </p:nvSpPr>
        <p:spPr>
          <a:xfrm>
            <a:off x="4495680" y="640080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4 by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5" descr="0132988631b.jpg"/>
          <p:cNvPicPr/>
          <p:nvPr/>
        </p:nvPicPr>
        <p:blipFill>
          <a:blip r:embed="rId4"/>
          <a:stretch/>
        </p:blipFill>
        <p:spPr>
          <a:xfrm>
            <a:off x="609480" y="1905120"/>
            <a:ext cx="3216240" cy="41148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808080">
                <a:alpha val="75000"/>
              </a:srgbClr>
            </a:outerShdw>
          </a:effectLst>
        </p:spPr>
      </p:pic>
      <p:sp>
        <p:nvSpPr>
          <p:cNvPr id="50" name="Text Box 47"/>
          <p:cNvSpPr/>
          <p:nvPr/>
        </p:nvSpPr>
        <p:spPr>
          <a:xfrm>
            <a:off x="1600200" y="6400800"/>
            <a:ext cx="5629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ffffff"/>
                </a:solidFill>
                <a:latin typeface="Verdana"/>
              </a:rPr>
              <a:t>Electronic Communications: A Systems Approach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Beasley | Hymer | Mill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5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751"/>
              </a:spcBef>
              <a:buClr>
                <a:srgbClr val="b2d2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428840" indent="-228600">
              <a:spcBef>
                <a:spcPts val="751"/>
              </a:spcBef>
              <a:buClr>
                <a:srgbClr val="1191d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1771560" indent="-228600">
              <a:spcBef>
                <a:spcPts val="751"/>
              </a:spcBef>
              <a:buClr>
                <a:srgbClr val="b2d233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1771560" indent="-228600">
              <a:spcBef>
                <a:spcPts val="751"/>
              </a:spcBef>
              <a:buClr>
                <a:srgbClr val="000000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1771560" indent="-228600">
              <a:spcBef>
                <a:spcPts val="751"/>
              </a:spcBef>
              <a:buClr>
                <a:srgbClr val="000000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5"/>
          <p:cNvSpPr/>
          <p:nvPr/>
        </p:nvSpPr>
        <p:spPr>
          <a:xfrm>
            <a:off x="-9360" y="6400800"/>
            <a:ext cx="9153360" cy="4572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8" descr="Pearson_Bound_White"/>
          <p:cNvPicPr/>
          <p:nvPr/>
        </p:nvPicPr>
        <p:blipFill>
          <a:blip r:embed="rId2"/>
          <a:stretch/>
        </p:blipFill>
        <p:spPr>
          <a:xfrm>
            <a:off x="7621560" y="6400800"/>
            <a:ext cx="1533600" cy="4572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9" descr="Pearson_Strap_Bound_White"/>
          <p:cNvPicPr/>
          <p:nvPr/>
        </p:nvPicPr>
        <p:blipFill>
          <a:blip r:embed="rId3"/>
          <a:stretch/>
        </p:blipFill>
        <p:spPr>
          <a:xfrm>
            <a:off x="-3240" y="6400800"/>
            <a:ext cx="1766880" cy="457200"/>
          </a:xfrm>
          <a:prstGeom prst="rect">
            <a:avLst/>
          </a:prstGeom>
          <a:ln w="0">
            <a:noFill/>
          </a:ln>
        </p:spPr>
      </p:pic>
      <p:sp>
        <p:nvSpPr>
          <p:cNvPr id="92" name="Text Box 47"/>
          <p:cNvSpPr/>
          <p:nvPr/>
        </p:nvSpPr>
        <p:spPr>
          <a:xfrm>
            <a:off x="1600200" y="6400800"/>
            <a:ext cx="5629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ffffff"/>
                </a:solidFill>
                <a:latin typeface="Verdana"/>
              </a:rPr>
              <a:t>Electronic Communications: A Systems Approach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Beasley | Hymer | Mill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47"/>
          <p:cNvSpPr/>
          <p:nvPr/>
        </p:nvSpPr>
        <p:spPr>
          <a:xfrm>
            <a:off x="4495680" y="640080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4 by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5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751"/>
              </a:spcBef>
              <a:buClr>
                <a:srgbClr val="b2d2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428840" indent="-228600">
              <a:spcBef>
                <a:spcPts val="751"/>
              </a:spcBef>
              <a:buClr>
                <a:srgbClr val="1191d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1771560" indent="-228600">
              <a:spcBef>
                <a:spcPts val="751"/>
              </a:spcBef>
              <a:buClr>
                <a:srgbClr val="b2d233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1771560" indent="-228600">
              <a:spcBef>
                <a:spcPts val="751"/>
              </a:spcBef>
              <a:buClr>
                <a:srgbClr val="000000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1771560" indent="-228600">
              <a:spcBef>
                <a:spcPts val="751"/>
              </a:spcBef>
              <a:buClr>
                <a:srgbClr val="000000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4BF91-AFB2-4FE5-994B-C310D4DD17EB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AC5F5-D674-42A1-BFA0-13F6695ABC0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3"/>
          <p:cNvSpPr/>
          <p:nvPr/>
        </p:nvSpPr>
        <p:spPr>
          <a:xfrm>
            <a:off x="5029200" y="3809880"/>
            <a:ext cx="380988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Verdana"/>
              </a:rPr>
              <a:t>Wireless Communications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6"/>
          <p:cNvSpPr/>
          <p:nvPr/>
        </p:nvSpPr>
        <p:spPr>
          <a:xfrm>
            <a:off x="6765480" y="2558880"/>
            <a:ext cx="11408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Verdana"/>
                <a:ea typeface="Arial"/>
              </a:rPr>
              <a:t>10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Wireless Computer Network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WiMAX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orldwide Interoperability for Microwave Access (WiMAX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roadband wireless system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roadband wireless access (BWA) for fixed and mobile station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Wireless Computer Network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Bluetooth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ed to replace cable connecting computers, mobile phones, handheld devices, portable computers, fixed electronic devic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s frequency-hopping spread-spectrum forma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e Table 10-4: Bluetooth Output Power Class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666880" y="3085920"/>
            <a:ext cx="4114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Table 10-4  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Bluetooth Output Power Classes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8" name="Picture 3" descr="tab10_04.jpg"/>
          <p:cNvPicPr/>
          <p:nvPr/>
        </p:nvPicPr>
        <p:blipFill>
          <a:blip r:embed="rId1"/>
          <a:stretch/>
        </p:blipFill>
        <p:spPr>
          <a:xfrm>
            <a:off x="914400" y="1905120"/>
            <a:ext cx="7315200" cy="323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Wireless Computer Network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ZigBee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EEE 802.15.4 wireless standar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hysical and media-access control requirements of wireless devic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ZigBee is trade nam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Wireless Computer Network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adio-Frequency Identification (RFID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s radio waves to track and identify people, animals, objects, shipment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inciple of modulated backscatter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eans of powering the tag (passive, semiactive, active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requency of operati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mmunications (air interface) protocol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ellular Phone Voice System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Global System for Mobile Communications (GSM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DMA multiplexing but with wider-bandwidth channel; more users per channel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ode-Division Multiple Access (CDMA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rect-sequence spread spectrum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ellular Phone Voice System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Cellular Concep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ell sit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rrangement of transmitter–receiver system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ithin cell sites are base sta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ransceivers for communicating with mobile phone users, and transmitting and receiving antenna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ellular Phone Voice System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Cellular Concep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bile telephone switching office (MTSO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requency reu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ing same carrier frequency in different, geographically separated cell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ellular Phone Voice System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ell Splitting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raffic in cell increases beyond capacity; area split into number of cell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ayleigh Fading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apid variation in signal strength received by mobile units in urban environment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ellular Phone Voice System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ellular Frequency Band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CC assigns frequencies; personal communication systems (PCS) for mobile phone servic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Wireless Computer Network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Wireless Local-Area Networks (WLANs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bility and cost-effectivenes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hysical lay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ata transmission method (radio or infrared frequencies)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ellular Phone Voice System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Global System for Mobile Communication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andard used by carriers throughout Europ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SM uses Gaussian minimum-shift keying (GMSK) as modulation method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s “equalizing filter” to minimize effects of multipath propagati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ellular Phone Voice System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Global System for Mobile Communication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ase st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ix types of control signals to mobil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DMA-based system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ocod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mpress voice data for transmissio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ellular Phone Voice System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ode-Division Multiple Access (CDMA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ultiplexing based not on time or frequency but on variant of spreading-code ide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ultiple calls handled over same frequency range at same time and in same vicinity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ellular Phone Voice System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ode-Division Multiple Access (CDMA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alsh cod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preading codes differentiate individual users within given area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ynchronization among base stations maintained with GPS receivers at each base stati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ilot signal transmitted by each base stati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ellular Phone Voice System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ode-Division Multiple Access (CDMA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plink path from subscriber unit to base stati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ultiplexing process used for downlink cannot be directly used for uplink; answer is long cod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ellular Phone Voice System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ode-Division Multiple Access (CDMA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ystem dependent on power control in pilot signal to allow correct handoff decisions to be made and in uplinks and downlink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ake receiv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ultiple correlator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ellular Phone Voice System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roubleshooting/Interference Consideration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SM open architectu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formation about system available for all user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pecialized test equipment developed to assist with troubleshooting of CDMA network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ellular Phone Voice System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roubleshooting/Interference Consideration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terference can degrade performance of GSM and CDMA systems; identify physical location of interferenc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e Table 10-6: A Partial List of Some Potential Interfering Signal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743200" y="3085920"/>
            <a:ext cx="4114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Table 10-6  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A Partial List of Some Potential Interfering Signals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0" name="Picture 5" descr="tab10_06.jpg"/>
          <p:cNvPicPr/>
          <p:nvPr/>
        </p:nvPicPr>
        <p:blipFill>
          <a:blip r:embed="rId1"/>
          <a:stretch/>
        </p:blipFill>
        <p:spPr>
          <a:xfrm>
            <a:off x="228600" y="2133720"/>
            <a:ext cx="8686800" cy="2581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Mobile and Cellular Date Network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-Generation Systems (3G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ployment tied to market conditions and availability of spectrum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e Table 10-7: Basic Characteristics of the Paths to 3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Wireless Computer Network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Wireless Local-Area Networks (WLANs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C lay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ata service reliability, access control to wireless medium, data privacy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andar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reless management protocols and services pertaining to authentication, association, data delivery, privacy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666880" y="3085920"/>
            <a:ext cx="4114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Table 10-7  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Basic Characteristics of the Paths to 3G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4" name="Picture 2" descr="tab10_07.jpg"/>
          <p:cNvPicPr/>
          <p:nvPr/>
        </p:nvPicPr>
        <p:blipFill>
          <a:blip r:embed="rId1"/>
          <a:stretch/>
        </p:blipFill>
        <p:spPr>
          <a:xfrm>
            <a:off x="228600" y="1089000"/>
            <a:ext cx="8686800" cy="4632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Mobile and Cellular Date Network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-Generation Systems (3G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CDM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niversal Mobile Telecommunications Service (UMTS); based on direct-sequence spread spectrum (DSSS)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Mobile and Cellular Date Network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-Generation Systems (4G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ot fully defined as ye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Mobile and Cellular Date Network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Wireless Application Protocol (WAP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orld standard to bridge gaps between mobile communications, Internet, corporate intranets;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ddress delivery problems with wireless data network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andwidth, latency, connection stability, availability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Wireless Security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ve aspects to consider when securing a communication link: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fidentiality (privacy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tegr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onrepudi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vailability of networ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Wireless Security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ttacks on a wireless network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ssiv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ctiv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terna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terna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Wireless Security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ountermeasures use cryptography to protect transmitted data from eavesdropping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a Encryption Standard (DES)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ipher text (encrypted message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Two-Way and Trucked Radio System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egulatory design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pecialized land-mobile radio (SMR); may be analog or digital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peaters (transceivers) provide wide-area coverag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Two-Way and Trucked Radio System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egulatory design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igh-elevation repeater serving number of remote units dispersed over wide geographic are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runking systems rely on frequency-division multiple-access (FDMA) methods of multiple-user acces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Software-Defined Radio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adio in which some subsystem functions carried out with software-based signal-processing routines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ubsystems perform much closer to the ideal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ognitive radios can “think;” they can take note of and adapt to their surrounding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Wireless Computer Network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Wireless Local-Area Networks (WLANs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802.11b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irst widely adopted standard for wireless networking; one of the most used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e Table 10-1: The DSSS Channel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666880" y="3085920"/>
            <a:ext cx="4114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Table 10-1  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The DSSS Channels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44" name="Picture 9" descr="tab10_01.jpg"/>
          <p:cNvPicPr/>
          <p:nvPr/>
        </p:nvPicPr>
        <p:blipFill>
          <a:blip r:embed="rId1"/>
          <a:stretch/>
        </p:blipFill>
        <p:spPr>
          <a:xfrm>
            <a:off x="1655640" y="228600"/>
            <a:ext cx="5888160" cy="594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Wireless Computer Network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Wireless Local-Area Networks (WLANs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802.11b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luetooth networks, cordless telephones, WLANs, microwave oven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e Table 10-2: The IEEE 802.11a Channels and Operating Frequenc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666880" y="3085920"/>
            <a:ext cx="4114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Table 10-2  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The IEEE 802.11a Channels and Operating Frequencies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48" name="Picture 2" descr="tab10_02.jpg"/>
          <p:cNvPicPr/>
          <p:nvPr/>
        </p:nvPicPr>
        <p:blipFill>
          <a:blip r:embed="rId1"/>
          <a:stretch/>
        </p:blipFill>
        <p:spPr>
          <a:xfrm>
            <a:off x="1579680" y="228600"/>
            <a:ext cx="5984640" cy="594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Wireless Computer Network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Wireless Local-Area Networks (WLANs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802.11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igrate to higher data rates without sacrificing network compatibility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802.11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ewest wireless standard; maintaining highest data rates under adverse condition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Wireless Computer Network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Wireless Local-Area Networks (WLANs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ultiple-input multiple-output (MIMO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rier sense multiple access with collision avoidance (CSMA/CA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07T12:47:34Z</dcterms:created>
  <dc:creator>Thomas Dunn</dc:creator>
  <dc:description/>
  <dc:language>en-US</dc:language>
  <cp:lastModifiedBy>Thomas Dunn</cp:lastModifiedBy>
  <dcterms:modified xsi:type="dcterms:W3CDTF">2013-05-14T05:29:55Z</dcterms:modified>
  <cp:revision>3</cp:revision>
  <dc:subject/>
  <dc:title>Slide 1</dc:title>
</cp:coreProperties>
</file>